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646-9598-4F55-B605-990495E6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61D-92C2-4996-B3DB-4980B454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AA5-70CE-489A-8F50-4A5EF6D8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F82-D297-40BA-88C8-42682BE7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4EF-EC96-4578-8B78-23FCBEC9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223B-19B4-4B4A-9F7F-7EEFB4C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D326-9F94-4472-82FE-8D4F872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CB07-1595-41BF-8DB5-524CCBB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A29-291A-4F36-A3FE-AD5D7B2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5E6-D0CF-4BBD-9C81-51F41CBB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4FD9-06EC-47E4-8E2B-93BB000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58D-8412-4F3E-A27C-8D9732B0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413E-22B3-4676-8880-03D15EE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6811-87F9-4588-9570-CE157DB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4D8-BEE1-40E5-A4A6-0C373523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EEA-BEA4-45E4-A5E7-6CC7207A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F0CB-0067-4467-8A2D-F04A18A0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D745-6A7D-4D04-94D0-2C8CA7F2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502E-2797-4B3B-8A4B-2ED35C2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0CDC6-22B8-4625-9C3C-CD0FE82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CC17-FA8B-4217-BAEF-A27940F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2A28-0DF6-4DA4-A264-54267ABE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D3F-0A63-4987-8607-E8D6301E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DF5E-3EEF-46B3-AE56-41081A2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D5F3-EE42-4CF3-9946-516A6CF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E3ED-3539-4BF4-8D40-DD40376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9BFD-BC2A-4D9B-B3C1-DFC56BB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2AD4-CC5E-4667-83B6-9D2D13DE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E599-996C-4550-B965-E249565C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E8B1-8AB2-4DBE-8ED9-37A6C4ED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0DA7-9809-481B-B008-1B2545AC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1AC7-4462-4779-B1C1-9BF44105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B5894-AF21-480E-9D4F-A40A1F1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FF2-0A7F-4EAC-9F23-054B9CB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51C3-5D72-4127-8C46-F998EF96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62C72-0844-48E4-881D-72D37996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0517-5249-4191-A577-98D228DC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410C-438C-4897-A094-2023C28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2927-42E9-4225-9458-4EA53D7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E425-5AF6-4DE6-80A0-08BE1624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3FF8-B006-493F-8AF8-652A3EBA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661C-5201-42E1-AF5B-82D787FA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35D5-814E-4B84-95F2-85471EA8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FA67-F873-48D4-B688-89363B40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D92-28E7-4136-9D9D-558B3ACE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A636-6B08-487E-81B5-8914A3C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FD22-FDF3-4CAF-8411-DE2014FE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EA47-1FA7-416A-9EBD-DCB5A7A8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D69B-DDF9-4E99-832B-8CDF88D7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011A-CCB1-4E60-BF03-F99953CA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E430-0A8A-4341-BD01-7BA69FF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7989-D9CC-4535-A064-88C10580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31DA-A689-447E-8F42-63CA4B2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3720C-FC78-4336-B982-EEFF360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C6F3-73FF-48DA-8DD8-EAB46C6C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723-1B61-4F2C-9EF6-22F05EA9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9856-E6BE-4A08-B85A-F9D2541F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1E17-2B15-4A0C-88A1-329EF101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29E3-206A-430E-B9A3-0D262F8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47DC-213E-40DD-9353-3DDF70E1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1A7E-726C-41F3-8F38-998DAB4C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51FB-C051-43A7-B6DF-3149AEC5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8BC7-71C3-4E42-9479-4D02BC6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80448-3EED-49BF-A7BF-4EC8BB6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CC2A-2B47-423A-95C5-AF4C25D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E2BEC-B2CC-4BE7-9B0E-3A473BB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E11-6035-47EC-BD3F-95D8A057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DFE2-8D70-4053-8D94-8146BBC8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B608B-24A3-4F23-BDA7-481028F8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11F0-AEA7-4A92-9135-54E024E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7CC9-0B37-4787-8C25-6C43C670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2362-CD86-4D32-A7CC-24F8F01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57A69-C9AC-4E79-980C-B5849357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4A44-D2F1-454E-88FA-774D45B8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80C20-0BA2-4211-8A93-0226F1DD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6E78-1FC4-4D6D-A86F-1944A132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D969B-73A4-42A8-9A5C-56DD320C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DD6-D391-4063-B1F7-3A6F073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3B05-5180-4518-9210-B5FA9F6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1B754-94C2-4347-AF8A-F11642E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3654-A414-4BA9-924A-6BE6015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CA750-E088-4828-B13E-E9BACB77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11E6D-ECD7-4538-B9CB-13B9A20F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2A5C-1271-41A8-BAC0-BB1AEB2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605AF-9B72-4E67-B477-B6E1580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EC3C-9DF6-470F-8A0C-EA652091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360A-70CA-4163-8B64-3E9E2DD9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B80E6-F60A-42BA-8179-6527F65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B4F-2067-439D-A48B-3E7BF7A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006A-3829-4616-8228-0DFD14B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DA072-6CD9-4FB5-839B-DE2F002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99E7-346A-482B-A320-D7DBD7F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8AFCB-7432-404D-AD8B-6A0A8E5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8A2B3-70D5-4A25-9F1C-CF4C18EB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9A51-940F-42FF-B65E-0A3A753B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3D786-85B1-4C45-89CA-C883D8DF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C37D-216F-4D8C-B175-1128D26722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F918-5347-4277-883F-1C43E8F4DB3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386-EBD9-45E8-BA04-B2A3FE672C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750-83EB-45C2-A314-78A54B21C2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EC79-D255-405D-9E7F-728EA633FB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1AAB-5DC2-49E4-BE29-0208AFDC78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321-202C-48B8-BD5D-34F30D4A60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9FF-5E57-4872-A97E-00E1BC0D6D7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f Vicki weren’t such a boring teacher, I wouldn’t sleep during clas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ake a question, use question word order in the main cla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you were sleep-deprived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would you be able to tel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f clause is not needed if the condition is understood by the liste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How would you be able to te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you make a question using the presen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an example question present unreal condition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verb to be, use “were” for all subj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I were rich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I would open my own schoo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she were rich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he would buy a new BM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you were rich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what would you d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Ohlone College were the best school in the bay area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many students would want to go t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sentence using the verb to 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using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using wou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using m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 unreal conditionals have two clau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lause is a group of words that have a subject and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wo Clau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If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ates the cond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Result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ates th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clauses do present unreal conditional statements ha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a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me the two clauses in a present unreal condition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If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If + Subject + past form of ver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If Abraham didn’t ignore Vic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Result clause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ect + would + base form of ver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he would understand present unreal condition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If Abraham didn’t ignore Vicki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he would understand present unreal condition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you form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you form the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result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is sente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result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is sente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Maren would make a wonderful teacher if she had more patie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 unreal conditionals talk about  something that is untrue, impossible, or imagi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describe the opposite of what is tru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teenagers went to sleep before 10:00 PM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ey would be more awake in schoo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 present unreal conditionals describ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s that is…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pp……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would + base form of verb to describe a definit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Nimfa didn’t have such a hectic lifestyle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he would sleep bet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might or could to describe a possibl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students knew about the dangers of sleep-derivation, they might take their sleep habits more serious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we use “would” in a presen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we use “might” or “could” in a presen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2:32:44Z</dcterms:created>
  <dc:creator> </dc:creator>
  <dc:description/>
  <dc:language>en-US</dc:language>
  <cp:lastModifiedBy>***-Ohlone College-***</cp:lastModifiedBy>
  <dcterms:modified xsi:type="dcterms:W3CDTF">2011-02-28T20:00:35Z</dcterms:modified>
  <cp:revision>2</cp:revision>
  <dc:subject/>
  <dc:title>Present Unreal Conditionals</dc:title>
</cp:coreProperties>
</file>